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226-38E6-40D7-AC31-CC9F5676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BAB-82A5-4AED-BE10-33BA6D4C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173-A16F-4208-A2B0-8D4DC29A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ED4-85A9-4C1E-B6E2-28D00F68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FBDB-752D-4D84-8BA8-393784EF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EC93-86CE-47D3-A2CE-CC6E1E97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8265-5C7F-4C7A-8673-AC32CBA6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C4B6-125A-4F98-A020-37BBF33F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D6D4-65BD-4947-A268-923404DF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7880-5A1F-4C55-9569-49EFECCE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5155-EB0D-4EAB-A06F-7632A027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9FC-3B8A-47E2-8F70-AB8ACCD0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D7D1-1E51-4460-91B2-6540A2D8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4875-CDD6-4BD6-BA73-09273C4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90CF-ED79-4EAE-9BE5-CE784514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44EB-747C-4082-87E4-3F79BA6A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F0DC-8509-4020-84B8-8035FADE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EB8-72A8-46DC-96C9-58854E1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265-E195-4AF1-BE17-78AA497C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AFA-2237-4837-B7D2-AEAB2A9C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569-B307-4D67-A2AA-264B0A55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738-841B-4881-8D97-41A54FC2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66C-7E24-4198-BE98-5E552184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1B9-0EC6-475F-A2D4-CDC62F5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8965-BC4A-4057-82E8-666F72FCDE9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25EF-13AE-47F0-9A07-772C097D5E05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age 182 – Chp. 4 – Realidades 3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When attaching reflexive or reciprocal pronouns at the end of a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sotr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command, </a:t>
            </a:r>
            <a:r>
              <a:rPr b="1" lang="es-ES" sz="3200" spc="-1" strike="noStrike">
                <a:solidFill>
                  <a:srgbClr val="00b050"/>
                </a:solidFill>
                <a:latin typeface="Tahoma"/>
              </a:rPr>
              <a:t>drop the final </a:t>
            </a:r>
            <a:r>
              <a:rPr b="1" i="1" lang="es-ES" sz="3200" spc="-1" strike="noStrike">
                <a:solidFill>
                  <a:srgbClr val="00b050"/>
                </a:solidFill>
                <a:latin typeface="Tahoma"/>
              </a:rPr>
              <a:t>–s</a:t>
            </a:r>
            <a:r>
              <a:rPr b="1" lang="es-ES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of the command before the pronou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¡Alegré</a:t>
            </a:r>
            <a:r>
              <a:rPr b="1" lang="es-ES" sz="3200" spc="-1" strike="noStrike" u="sng">
                <a:solidFill>
                  <a:srgbClr val="00b0f0"/>
                </a:solidFill>
                <a:uFillTx/>
                <a:latin typeface="Tahoma"/>
              </a:rPr>
              <a:t>mo</a:t>
            </a: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con sus éxitos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Let´s be happy about their success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00"/>
                </a:solidFill>
                <a:latin typeface="Tahoma"/>
              </a:rPr>
              <a:t>Abráce</a:t>
            </a:r>
            <a:r>
              <a:rPr b="1" i="1" lang="es-ES" sz="3200" spc="-1" strike="noStrike" u="sng">
                <a:solidFill>
                  <a:srgbClr val="00b0f0"/>
                </a:solidFill>
                <a:uFillTx/>
                <a:latin typeface="Tahoma"/>
              </a:rPr>
              <a:t>mo</a:t>
            </a:r>
            <a:r>
              <a:rPr b="1" i="1" lang="es-ES" sz="3200" spc="-1" strike="noStrike">
                <a:solidFill>
                  <a:srgbClr val="ffcc00"/>
                </a:solidFill>
                <a:latin typeface="Tahoma"/>
              </a:rPr>
              <a:t>nos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  Let’s hu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There are two ways to say </a:t>
            </a: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“Let´s…  </a:t>
            </a: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in Spanish.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Vamos a</a:t>
            </a: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 + infinitive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3a219"/>
                </a:solidFill>
                <a:latin typeface="Tahoma"/>
              </a:rPr>
              <a:t>Vamos a hacer</a:t>
            </a: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 las pace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(Let´s make up.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You can also use a command with a nosotros form which is the nosotros form of the present subjunctive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3a219"/>
                </a:solidFill>
                <a:latin typeface="Tahoma"/>
              </a:rPr>
              <a:t>Resolvamos</a:t>
            </a:r>
            <a:r>
              <a:rPr b="1" lang="es-ES" sz="4400" spc="-1" strike="noStrike">
                <a:solidFill>
                  <a:srgbClr val="ffffff"/>
                </a:solidFill>
                <a:latin typeface="Tahoma"/>
              </a:rPr>
              <a:t> el conflicto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d3a219"/>
                </a:solidFill>
                <a:latin typeface="Tahoma"/>
              </a:rPr>
              <a:t>Let´s resolve</a:t>
            </a: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 the conflic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Negative 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o say “Let’s not….”  Just put “no” before the Nosotros command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No reaccionem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tan rápido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d3a219"/>
                </a:solidFill>
                <a:latin typeface="Tahoma"/>
              </a:rPr>
              <a:t>Let´s not react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 so quickly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Ir as a nosotros command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*For the verb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Tahoma"/>
              </a:rPr>
              <a:t>i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negative command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rm is the 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subjunctiv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¡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No vayamo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casa!    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Tahoma"/>
              </a:rPr>
              <a:t>Let's not go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ome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ut  the affirmative command  “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</a:rPr>
              <a:t>Let’s go”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uses the </a:t>
            </a:r>
            <a:r>
              <a:rPr b="1" i="1" lang="en-US" sz="3200" spc="-1" strike="noStrike" u="sng">
                <a:solidFill>
                  <a:srgbClr val="00b050"/>
                </a:solidFill>
                <a:uFillTx/>
                <a:latin typeface="Tahoma"/>
              </a:rPr>
              <a:t>present tense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¡Vamos a casa!  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Let's go home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Or Irse  </a:t>
            </a:r>
            <a:r>
              <a:rPr b="1" i="1" lang="en-US" sz="3200" spc="-1" strike="noStrike">
                <a:solidFill>
                  <a:srgbClr val="ffc000"/>
                </a:solidFill>
                <a:latin typeface="Tahoma"/>
              </a:rPr>
              <a:t>¡Vámonos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 casa!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Remember that stem-changing verbs whose infinitive ends in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–i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have a stem change of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e&gt;i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o&gt;u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in the nosotros for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Pida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erdón por el malentendido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ask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forgiveness for the misunderstanding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 durma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l aire libr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not sleep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outdoor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Verbs that end in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–car, -gar, and –z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have a spelling chan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 critique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nuestros padre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not criticiz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our paren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Empece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pensar un poco en ello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begin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to think a little about the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000"/>
                </a:solidFill>
                <a:latin typeface="Tahoma"/>
              </a:rPr>
              <a:t>Juguemos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al mediodía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000"/>
                </a:solidFill>
                <a:latin typeface="Tahoma"/>
              </a:rPr>
              <a:t>Let’s play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at no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Direct/indirect object pronouns are attached at the end of affirmative 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nosotr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commands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¡Celebrem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la amistad!  ¡</a:t>
            </a: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Celebrémosla!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d3a219"/>
                </a:solidFill>
                <a:latin typeface="Tahoma"/>
              </a:rPr>
              <a:t>Let´s celebrate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 our friendship.  </a:t>
            </a:r>
            <a:r>
              <a:rPr b="1" i="1" lang="es-ES" sz="4000" spc="-1" strike="noStrike">
                <a:solidFill>
                  <a:srgbClr val="ffc000"/>
                </a:solidFill>
                <a:latin typeface="Tahoma"/>
              </a:rPr>
              <a:t>Let´s celebrate it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Direct and indirect object pronouns go before the negative 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nosotr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command form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No le mintamos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000"/>
                </a:solidFill>
                <a:latin typeface="Tahoma"/>
              </a:rPr>
              <a:t>Let´s not lie 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to him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1:00:05Z</dcterms:created>
  <dc:creator>Suzanne M. Shirley</dc:creator>
  <dc:description/>
  <dc:language>en-US</dc:language>
  <cp:lastModifiedBy>Windows User</cp:lastModifiedBy>
  <dcterms:modified xsi:type="dcterms:W3CDTF">2014-05-06T15:52:13Z</dcterms:modified>
  <cp:revision>14</cp:revision>
  <dc:subject/>
  <dc:title>Nosotros Comma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81033</vt:lpwstr>
  </property>
</Properties>
</file>